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5.jpeg" ContentType="image/jpeg"/>
  <Override PartName="/ppt/media/image20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040-94D9-4768-ABBD-9DC9BBF7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81D-7CC8-4D16-8DCE-EE4FA3D5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F19-C297-4093-91EF-88D9BDB7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A01-0FDC-48F3-BE17-243E7489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F07-0C20-4680-B01E-670F8451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459-3D88-411D-B317-2E021363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219-1C53-42B5-A915-1F9F8B4C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7A17-277D-4EF7-B694-8597F5DF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763-CA1E-4AF7-AACE-8A4C8452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42F-3FB5-4001-A5F0-9DD6E33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3C1-AA0A-469C-A49D-E4F7398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EDE-0B09-47CE-A517-1DF8406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D2BE-E317-4D16-A57E-24DBA0D2C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REA MATEMATICĂ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ELOR DE OPTIMIZ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8240" y="132624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ulţimi neconv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88620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90920" y="5562720"/>
            <a:ext cx="50292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5440" y="1370520"/>
            <a:ext cx="87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ţia unui număr finit de mulţimi convexe este şi ea convex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03884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7680" y="608400"/>
            <a:ext cx="44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 Funcţii convexe şi con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962520" cy="336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2880" y="5303160"/>
            <a:ext cx="697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ţi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ste convex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tru că satisface condiţia că segmentul de dreapt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uneşte puncte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găseşte deasupra graficului funcţi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5440" y="-157680"/>
            <a:ext cx="744840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tul axei absciselor dint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satisface rela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= λ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(1 – λ)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 0 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≤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 consecinţă, porţiunea funcţie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nt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definită de rela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f [λ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(1 – λ)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ul de dreaptă care uneşte puncte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definit prin rela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λ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+ (1 – λ)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 0 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≤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ţia ca segmentul să nu se găsească sub gra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exprimă deci prin rela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[λ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(1 – λ)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] ≤ λ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+ (1 – λ)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4680" y="685800"/>
            <a:ext cx="66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funcţie este concavă dacă segmentul menţio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 se găseşte nicăieri deasupra graficului funcţie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3353040" cy="2913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5760" y="5230800"/>
            <a:ext cx="8090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ţia de concavitate a unei funcţii se exprimă prin rela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[λ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(1 – λ)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] ≥ λ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+ (1 – λ)f(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6440" y="1173600"/>
            <a:ext cx="63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le funcţii nu sunt nici concave, nici convex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4876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75000" y="487800"/>
            <a:ext cx="7995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Formularea optimizării prin intermediul spaţiilor vec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2520" y="1601280"/>
            <a:ext cx="561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Într-un spaţiu real cu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dmensiuni R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iecare punct este definit d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coordon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spectiv de vector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dimensional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286000" y="3352680"/>
                <a:ext cx="388620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080" y="411840"/>
            <a:ext cx="59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spaţiu vectoria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line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acă pent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581280" y="1143000"/>
                <a:ext cx="24386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32080" y="17834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binaţia linear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581280" y="2514600"/>
                <a:ext cx="27432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31720" y="338364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ind constante scal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6200" y="4435200"/>
            <a:ext cx="725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spaţiu este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omp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că orice şir Cauchy format cu elemente ale spaţ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limita şirului în spaţiul resp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4680" y="-2160"/>
            <a:ext cx="634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spaţiu are u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rodus 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că în spaţiul respectiv este definită o oper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atribuie un numă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cărei perechi de elemente ale spaţiu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828800"/>
          <a:ext cx="8458200" cy="23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45820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4432320"/>
            <a:ext cx="5105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sul scalar a doi vecto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umit şi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produs inter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 notează p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x, y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685800"/>
          <a:ext cx="853452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5345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800" y="106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1760" y="3198240"/>
            <a:ext cx="59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e numeşte </a:t>
            </a:r>
            <a:r>
              <a:rPr b="1" i="1" lang="de-DE" sz="2400" spc="-1" strike="noStrike">
                <a:solidFill>
                  <a:srgbClr val="333399"/>
                </a:solidFill>
                <a:latin typeface="Times New Roman"/>
              </a:rPr>
              <a:t>produs exter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(sau </a:t>
            </a:r>
            <a:r>
              <a:rPr b="1" i="1" lang="de-DE" sz="2400" spc="-1" strike="noStrike">
                <a:solidFill>
                  <a:srgbClr val="333399"/>
                </a:solidFill>
                <a:latin typeface="Times New Roman"/>
              </a:rPr>
              <a:t>produs dyadic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şi se notează p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x, y 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3480" y="5332680"/>
            <a:ext cx="74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spaţiu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il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un spaţiu linear, complet şi având un produs sca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7520" y="604800"/>
            <a:ext cx="754668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rmi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1 Funcţii criteriu şi restric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area inclu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alegerea unui criteriu de optim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tabilirea restricţiilor de tip egalitate şi in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terminarea valorilor optime ale variabil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are intervin în expresia criteri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i în expresiile restricţiilo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este valori asigurând un ext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axim sau minim, după caz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criteriului de optimiz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8160" y="302040"/>
            <a:ext cx="67215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acă variabile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… 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n fincţia criteriu sunt coordonatele unui vex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î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705720" y="685800"/>
                <a:ext cx="5331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10652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ptimizarea constă în a găsi acel vec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pentru care funcţia are un minim, deci pentru care rezult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666880" y="2133720"/>
                <a:ext cx="1905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-6480" y="2589840"/>
            <a:ext cx="46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ru ori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n vecinătatea lu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60" y="3048120"/>
            <a:ext cx="68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construieşte o secvenţă (şir) de vectori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tfel încât să se obţin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4038480"/>
                <a:ext cx="21337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14600" y="4876920"/>
                <a:ext cx="18288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-10440" y="5668920"/>
            <a:ext cx="556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– scalar - asigură pasul căută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 - vector din acelaşi spaţiu cu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rmină direcţia căutării optim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57240" y="623520"/>
            <a:ext cx="9201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ntajele utilizării spaţiilor Hilbert pentru optimiza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ţiul Hilbert fiind linear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 fi un element al spaţiulu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oarece reprezintă o combinaţie lineară a vectoril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spaţiul Hilbert fiind complet, limita şirului de vec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it se va găsi în spaţiul rspec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aptul că spaţiul Hilbert este definit ca un produs sca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jută la determinarea vectorulu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asigură direcţia căutării  optimu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sul scalar permite definirea conceptului de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togon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 vectori sunt ortogonali, dacă produsul lor scalar este nu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 dacă este îndeplinită condi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59889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=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20" y="0"/>
            <a:ext cx="9248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sul scalar permite şi definirea unei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r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ectiv a unei măsuri a lungimii unui element al spaţiulu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ând astfel o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etrică a spaţi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şi oţinându-se un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paţiu metr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743200" y="2209680"/>
          <a:ext cx="281952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09680"/>
                    <a:ext cx="28195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43200" y="3581280"/>
                <a:ext cx="27432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5800" y="2398680"/>
            <a:ext cx="860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AUTOMATIZARE ŞI OPTIMIZ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67080" y="351000"/>
            <a:ext cx="593856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PTIMIZǍRI STAŢIO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001000" cy="397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5040" y="140220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u: o instalaţie tehnologicǎ din industria chimic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80" y="-56520"/>
            <a:ext cx="7599960" cy="64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acto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 -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schimbǎtorul de cǎldur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 –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canto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- coloană de disti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A-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leta de ameste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– reactanţii - cu debitel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bitul          -  fracţiunea recirculatǎ prin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n debitul tota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dus de bazǎ al coloan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bitul         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stul produsului de baz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olosit în calitate de combustib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19320" y="5410080"/>
                <a:ext cx="685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19320" y="4343400"/>
                <a:ext cx="761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560" y="560520"/>
            <a:ext cx="8874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n reactoru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în care temperatura are valoarea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 obţine debitul tota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e însumeazǎ debitele a 6 componente rezultate din reacţ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bitel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respunzǎtoare cantitǎţilor din reactanţii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e nu au participat la reac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bitel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ale produselor secundare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ţinute din reac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bitu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dus secundar greu, uleios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obţinut din reac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 debitu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produs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94760" y="476280"/>
            <a:ext cx="67507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bitul tota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 ieşire din 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ǎ în schimbǎtorul de caldur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în care are loc un proces de rǎc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oritǎ fluidului de rǎci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când apoi în decantoru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e separǎ produsul greu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baza decantorului rezultând debitul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sul greu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u poate fi utiliz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şi, în plus, necesitǎ o anumitǎ trat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 implicǎ o anumitǎ cheltuial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înainte de a fi evacuate ca rezidu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itându-se astfel efectele de pol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ocate de produsul respect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41760" y="1114200"/>
            <a:ext cx="727632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sele intermediar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ot fi folosite numai în calitate de combust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şi au, deci, o valoare utilǎ corespunzǎto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olosirea debitului         (o parte din debitul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 produs de bazǎ al coloanei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în calitate de combustibil este posibil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atoritǎ acestei proprietǎţi u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 produselor intermediar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886200" y="2438280"/>
                <a:ext cx="685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71960" y="1607760"/>
            <a:ext cx="823788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upǎ separarea produsului greu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în decant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tul componentelor debitului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trǎ în coloan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n care se obţine la vârf produsul principal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cu debitul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ar la bazǎ rezultǎ  debitul de produs de bazǎ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cu debitul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PB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împǎrţit în debitul de combustibi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şi debitul de recirculare în re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6120" y="327240"/>
            <a:ext cx="66258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ând variabilele care inter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 expresiile criteriului şi restricţiilor p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eriul de optimizare poate fi notat prin func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f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2160" y="3688200"/>
            <a:ext cx="32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ită funcţie criteri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ţie obiecti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e de performanţ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ţie de co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ţie de optimiz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ţie scop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etc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8320" y="-116640"/>
            <a:ext cx="8159040" cy="70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uncţionarea instalaţiei tehnolog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te caracterizatǎ de 12 mǎrim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bitele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G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R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,        ,          şi temperatur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n re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ǎrimi ce inter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tât în expresia criteriului de optimiz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ât şi în expresiile restricţi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ptimizarea staţionarǎ are ca obiec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ǎ determine pentru instalaţia tehnologic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el regim de funcţionare de lungǎ durat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acele valori staţionare op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le mǎrimilor caracterizând funcţionarea instalaţi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e sǎ asigure maximiz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atei anuale de recuperare a investiţi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66880" y="1523880"/>
                <a:ext cx="685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29000" y="1523880"/>
                <a:ext cx="6858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4200" y="382320"/>
            <a:ext cx="8878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resia criteriului de optim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a ratei anuale de recuperare a investiţii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obţine în funcţie de unele dintre aceste 12 mǎr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 intermediul diferitelor grupe de mǎr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obţin expresiile restricţiilor de tip egalitate (9 restricţ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şi ale restricţiilor de tip inegalitate (14 restricţ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tricţiile de tip 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zultǎ scriind ecuaţiile bilanţurilor de material pe ansamb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şi pentru fiecare component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exemplu, pentru ansambul instalaţiei tehnolog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zultǎ relaţia de egalitate a debitelor de intrare şi de ieş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219320" y="5715000"/>
                <a:ext cx="5943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6560" y="-64080"/>
            <a:ext cx="90352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Optimizarea staţionar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îşi propune ca obiec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terminarea valorilor staţionare optime ale unor mǎrim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re vor fi menţinute timp îndelung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ntru obţinerea unui maxim al criteriulu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prezentat de rata anualǎ de recuperare a investiţiil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riteriu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însuş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iind formu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in intermediul unui interval mare de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enţinerea anumitor mǎrimi la valorile optime stabi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 va face prin intermediul unor bucle lo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 reglare automat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în care vor interveni regimuri tranzitori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ventuala optimizare a acestor regim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ormeazǎ obiectul unei alte clase de problem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oblemele de </a:t>
            </a:r>
            <a:r>
              <a:rPr b="1" lang="it-IT" sz="2800" spc="-1" strike="noStrike">
                <a:solidFill>
                  <a:srgbClr val="333399"/>
                </a:solidFill>
                <a:latin typeface="Times New Roman"/>
              </a:rPr>
              <a:t>optimizare dinamic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2480" y="228600"/>
            <a:ext cx="5639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OPTIMIZǍRI DINA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7416720" cy="2139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2840" y="1674360"/>
            <a:ext cx="721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u: cazul cel mai simpl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 unui sistem de reglare automatǎ în funcţie de ieş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ovariabil (cu o singurǎ mǎrime de referinţ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i o singurǎ mǎrime reglatǎ), liniar şi continu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360" y="2088000"/>
            <a:ext cx="70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este regulatorul auto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elementul de execu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instalaţia tehnologic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traducto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1, p2, …, p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perturbǎr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acţioneazǎ asupra instalaţiei tehnolog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3960" y="532080"/>
            <a:ext cx="872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upând elemente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într-un singur bloc echival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zultǎ pentru schema de elemente aspec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486400" cy="2220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9720" y="4493520"/>
            <a:ext cx="831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ste blocul echivalent al pǎrţii fixate a sistem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ero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mǎrimea de comand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mǎrimea reglatǎ, respectiv mǎrimea de ieşire a sistemu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-7200" y="-1440"/>
            <a:ext cx="841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mul tranzitoriu al mǎrmii regl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ocat de o variaţie treaptǎ unitarǎ a mǎrimii de referinţ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4000320" cy="2444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42670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3600" y="-1440"/>
            <a:ext cx="74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În cazul rǎspunsului la variaţia treaptǎ unitarǎ pozitiv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mǎrimii de referinţǎ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343400" cy="2425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09680" y="4267080"/>
            <a:ext cx="4419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743200" y="685800"/>
          <a:ext cx="1676520" cy="14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685800"/>
                    <a:ext cx="16765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029200" y="685800"/>
          <a:ext cx="190512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85800"/>
                    <a:ext cx="19051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029200" y="2286000"/>
                <a:ext cx="1828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057400" y="4648320"/>
                <a:ext cx="533412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ρ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1360" y="33552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lioptim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105160" cy="299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4952880"/>
                <a:ext cx="54104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</m:e>
                            </m:nary>
                          </m:e>
                        </m:nary>
                      </m:e>
                    </m:nary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20" y="1352520"/>
            <a:ext cx="7166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TRICŢIILE DE TIP EGA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 fi exprimate prin relaţii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i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 ,      c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, 2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esupunând că sunt impu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stricţii de acest t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 sunt denumite şi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stricţii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09680" y="2514600"/>
                <a:ext cx="213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x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33520" y="3733920"/>
                <a:ext cx="5331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9480" y="4267080"/>
                <a:ext cx="39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-7920" y="699480"/>
            <a:ext cx="6391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ile integrale pǎtra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formuleazǎ şi în limbajul intrare-stare-ieşi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descrie funcţionarea sistem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 intermediul ecuaţiilor de 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69800" y="365652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torul stǎrilo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69800" y="4159440"/>
            <a:ext cx="556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regulǎ) vectorul comenzil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 se poate defini şi un set de parame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133720" y="1371600"/>
                <a:ext cx="35812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057400" y="2743200"/>
                <a:ext cx="3809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-13320" y="449424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- vectrii stǎrilor, comenzilor şi mǎrimilor de ieşire (regl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– matrice de ponder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8520" y="549720"/>
            <a:ext cx="900756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LOSIREA METODELOR DE DESCOMPUN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ECOMPOZIŢ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3920" y="1685880"/>
            <a:ext cx="845640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nivelul inferior se gǎsesc subsisteme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asigurǎ optime loc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exemplu prin maximizarea unor criteri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ar nivelul superior este constituit de coordonator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 asigurǎ un opitim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chimbând informaţii în ambele sensuri cu subsisteme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ţii reprezentate simbolic prin sǎgeţ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exemplu prin minimizarea unui criteri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5486400" cy="3043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3720" y="4118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2520" y="45720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e  douǎ subsisteme formate, subsistem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subsistem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t legate prin douǎ mǎrimi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440" y="18277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itul de intrare în coloan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notat 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1200" y="236124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ieşirea din subsistem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7880" y="312300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intrarea în subsistem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2160" y="3808800"/>
            <a:ext cx="72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ţiunea recirculatǎ din produsul de bazǎ, notata 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7520" y="441864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ieşirea din subsistem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4200" y="53330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intrarea în subsistem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280" y="2286000"/>
                <a:ext cx="541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280" y="2743200"/>
          <a:ext cx="5540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43200"/>
                    <a:ext cx="5540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2280" y="4343400"/>
                <a:ext cx="838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" y="4997520"/>
                <a:ext cx="819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Q</m:t>
                        </m:r>
                      </m:e>
                      <m:lim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11880" y="212040"/>
            <a:ext cx="856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tricţiile anterioare de tip egalitate se adaugǎ alte restricţ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dintre ele rezultǎ din ecuaţia bilanţului d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debitul care iese din subsistemu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-941400" y="30909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2975400" y="14468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C = QR – QRG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680" y="201204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ceastǎ ecuaţie conducînd la restric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26160" y="24372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R – QRG­ – QC =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6840" y="3198240"/>
            <a:ext cx="555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e douǎ restricţii de tip 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zultǎ din necesitatea egalitǎţii debite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 ieşire  din unul dintre subsi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şi de intrare în celǎla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828800" y="4952880"/>
                <a:ext cx="1447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Q</m:t>
                        </m:r>
                      </m:e>
                      <m:lim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28800" y="5867280"/>
                <a:ext cx="19810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Q</m:t>
                        </m:r>
                      </m:e>
                      <m:lim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419720" y="4876920"/>
                <a:ext cx="2361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Q</m:t>
                        </m:r>
                      </m:e>
                      <m:lim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495680" y="5791320"/>
                <a:ext cx="26672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limUp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19520" y="1828800"/>
                <a:ext cx="38862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Q</m:t>
                        </m:r>
                      </m:e>
                      <m:lim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3809880"/>
                <a:ext cx="457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limUpp>
                      <m:e>
                        <m:r>
                          <m:t xml:space="preserve">Q</m:t>
                        </m:r>
                      </m:e>
                      <m:lim>
                        <m:acc>
                          <m:accPr>
                            <m:chr m:val="^"/>
                          </m:accPr>
                          <m:e>
                            <m:sSub>
                              <m:e/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acc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-6120" y="1141560"/>
            <a:ext cx="91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ru subsistemul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zultǎ o singurǎ ecuaţie de bilanţ de material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970360"/>
            <a:ext cx="47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 aceasta obţinându-se restric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-9360" y="339480"/>
            <a:ext cx="8107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RUCTURA MULTIST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alizeazǎ, de asemenea, o ierarhiz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şi anume pe “straturi”, sau “algoritmi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diversele straturi intervenind algoritmi cu scopuri dife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2840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-8640" y="864360"/>
            <a:ext cx="8667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ratul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ţine algoritmii de reglare automat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şi acţioneazǎ în permanenţǎ pentru ca valorile mǎrimilor regl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tituind vectorul 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ǎ urmǎreascǎ valorile prescrise prin mǎrimile de referinţ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tituind vectorul 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ratul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transmite elementelor de execuţie din blocul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ctorul mǎrimilor de comandǎ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supra bloculu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acţioneazǎ şi vectorul perturbǎrilor 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60" y="480240"/>
            <a:ext cx="659520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TRICŢIILE DE TIP INEGA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 fi exprimate prin relaţii de forma genera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≤ 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≤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, 2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resupunând că interv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stricţii de acest ti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nt limita inferioară admi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i limita superioară admis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9360" y="5256360"/>
            <a:ext cx="76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 sunt denumite şi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estricţii ina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ar expresiile care le descriu sunt denumit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cuaţii limit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6120" y="136080"/>
            <a:ext cx="71179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ul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un algoritm de optimiz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, pe baza informaţiilor y şi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mite de la blocul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şi a informaţiil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mite de la mediul înconjurǎ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boreazǎ valorile optime pres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mtru mǎrimile reglate 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ţând stratulu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ste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 forma vectorului mǎrimilor de referinţǎ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ile optime sunt cal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goritmul de optim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ipoteza cǎ parametrii instalaţiei teholog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ctori de amplificare, constante de timp, timp mor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ind un vector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u suferǎ variaţii în ti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-4406760" y="3449520"/>
          <a:ext cx="12384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406760" y="3449520"/>
                    <a:ext cx="1238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-4417200" y="35917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 nu suferǎ variaţii în timp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-6840" y="-3960"/>
            <a:ext cx="7160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ratul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alizeazǎ un algoritm de adap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 baza informaţiilor x, y şi z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imite de la blocul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şi a informaţiilor q primite de la mediul înconjurǎt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goritmul 3 determinǎ valorile parametrilor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şi le transmite stratulu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ntru ca algoritmul de optimizare din acest st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ǎ ia în considerare valorile respectiv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eori fiind modificatǎ în mod corespunzǎ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ructura acestui algorit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7200" y="5668920"/>
            <a:ext cx="61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ratul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asigurǎ astfel o actualiz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 valorilor parametrilor modelului mat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 instalaţiei tehnolog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6160" y="1241280"/>
            <a:ext cx="71222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 unele cazuri, se impune o singură limit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ar uneori aceasta poate fi nul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zultând restricţii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u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003320"/>
            <a:ext cx="73152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ărul m al restricţiilor 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buie să fie mai mic decât numărul n al variabilel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 este necesară o relaţie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 &lt;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9320" y="3884040"/>
            <a:ext cx="779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 cazul restricţiilor de tip in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 intervind condiţii de acest ti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trucât aceste restricţii delimitează ş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ărul lor poate fi mai mare decât numărul variabile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8640" y="-2880"/>
            <a:ext cx="848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Mulţimi convexe şi neconv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mulţime este convexă dacă unind printr-o dreapt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care pereche de puncte ale mulţimi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al de dreaptă aparţine în întregime mulţimii respec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 caz contrar, mulţimea este neconvex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543800" cy="195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5181480"/>
            <a:ext cx="75438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0000"/>
            <a:ext cx="73152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tr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arecare de pe segmental resp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≤ 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≤ 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λ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(1-λ)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 care valorile scalarului λ satisfac condi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 ≤ λ ≤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4:21:33Z</dcterms:created>
  <dc:creator>Dan</dc:creator>
  <dc:description/>
  <dc:language>en-US</dc:language>
  <cp:lastModifiedBy>Dan</cp:lastModifiedBy>
  <dcterms:modified xsi:type="dcterms:W3CDTF">2009-04-09T04:49:32Z</dcterms:modified>
  <cp:revision>55</cp:revision>
  <dc:subject/>
  <dc:title>FORMULAREA MATEMATICĂ A PROBLEMELOR DE OPTIMIZARE </dc:title>
</cp:coreProperties>
</file>